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4.jpeg" ContentType="image/jpeg"/>
  <Override PartName="/ppt/media/image15.wmf" ContentType="image/x-wmf"/>
  <Override PartName="/ppt/media/image1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3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5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7371-7E23-48CF-AB8F-EE0CFD0EC7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D840-E361-49DA-9E68-B6BC18C849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DC8BD-2D3E-4108-8DF8-54D8C5872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2BF93-16EA-4D2D-8551-50391B67A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CCA07-FC4F-48AC-839A-B67199A864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9D1F4-E838-44F0-9338-0BF15A3208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255600">
              <a:spcBef>
                <a:spcPts val="45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2705D-956F-4A05-90F0-92DFC7A45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55201-ABF7-44C6-82B4-D427D74C34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C8DA8-2AFD-4163-BC43-282975A73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99882-5557-4EFB-89D6-2E7B52DE1B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AC574-17A7-4947-AD8F-A1A83BD29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1CFF-465A-4F20-AA4F-867A69E6F4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EB05E-E319-4DA9-8E9B-82D4E09CB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FD482-0E97-4BD1-9121-234D8F69C6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ED73E-8207-42A1-887F-3B01CCBBE5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CAA3E-2FD2-47A2-9DBA-279C78C80F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E1F4B-5E33-43D7-8143-934B3E0008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482FF-7E72-4D7E-9A82-63FBB7B62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AEF1D-E024-44C8-9552-7B073920C5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C39F-EE17-451B-BED8-46536B96B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74157-6E6B-4DCA-9B11-684109B416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SMinionTab-Regular"/>
              </a:rPr>
              <a:t>Штитаста жлезда се развија од вентралног зида фаринкса и расте каудално од базе језика до нивоа крикоидне хрскавице на бази врата, у току првог семестра трудноће. Уски истмус повезује леви и десни лобус и понекад пирамидални лобус у средини, који представља крај тиреоглосалног дукту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4D77F-423F-43B5-9F1E-FD81E4F7E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28E1B-3B02-4A34-8098-A2A016E6EE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FECDB-8EDF-4A2F-A2D6-CA6B317CB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1FAB7-6B02-4982-BFFB-BD43386A74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EECFC-5B7C-40D2-86A6-C7DF58ACA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B9228-F82A-4567-9C54-D0DDFD22A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7EF8B-34AA-4131-95F3-56827D60C6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1F94C-E725-4FE6-A844-389B3C1776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9480" y="65412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0AB6E-AF94-4C6F-AC15-E54FAEC5E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FFD57-18D4-436B-8D43-71EE3E0D5A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304560" y="4218120"/>
            <a:ext cx="655308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53C4D-CFD5-406C-ABEA-D5BD402C1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D2B3D-C9EF-4DF3-83DA-68ABEB6208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80B52-43E2-488B-ACED-43A7D44ED7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53497-74A6-41A2-8EFA-759CD2EDCC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B08D5-9041-456D-A10B-339293906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16082-CC0A-4B67-95B9-D2E098076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A9B7B-F31F-4501-8385-62B7D58FF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27320-E306-4CC9-A6DF-AD1A2E471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456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D5A67-EDF3-4173-B962-4CF8B34E5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A072-3D22-4708-8700-F9D1D40C5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D8AB-4425-42A1-9FEC-5D6EE1756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BB1B-19D5-4B08-B97D-F401C1326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B7A69-EC80-4D68-87EE-7F05108A7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6CF-3BFB-4BA7-8366-259B63BCD0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38479-D6A4-43FF-8F65-C18B8DD6D9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7D6E-B503-44F6-A75A-4DD9549819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6104A-C4BA-421C-8A7D-AA19AAC19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F417-7943-45F6-ABA6-54CC63A5EB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DF99-3C8B-4964-96AE-4DDD394E12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E7F5-D86C-444A-8560-A32CA3A7BE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BC69-C0BE-4ED2-9FA1-A541CF978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E63C-A69F-4304-B83F-537A9DC002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9F26-954B-4D8F-A87E-F9FCBAFDB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EDDE-5293-4D0F-9C6E-E65DDA8A8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7C61-86F5-4411-B000-7F12277F5F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D80E-5191-474F-8E5F-5A7F67974C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83C-24B7-4F49-8EA4-573AA14D45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456-B8BB-4BD5-AE39-23911FF35A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F9A-85BF-4E94-8F7A-E4A82120B9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8C9-137A-48EC-B60E-6BD4E3E54E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CD4-8A6A-45AF-9EA5-85600E738E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E820-702C-4AA1-9919-E0AF12B24C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FFC8-6538-4EAD-9698-E82AF546AC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63F-7254-4FC1-AFC9-20FD601B0F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57A-4058-4873-BDE6-DC189BAB06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C35-FF79-4CE7-9FD9-41BE70B9EE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9A8-1368-4D0A-AD43-D58A8EE885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6F2-FC2B-4478-B1AB-DE6DF82311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20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19560" y="14810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684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20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19560" y="38437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52D-C8E6-4DE4-A8CF-15CE30F11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BAFC-E089-48D8-AEC9-BEBE2821C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2CD9-4F71-4740-8E99-3D0CE16A5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A0FB-FFDD-4C76-8BCB-A4474B5F8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187D-C900-4A43-89CF-B09F72833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2440" y="38437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1D2D-9096-4A44-9A54-7CE3D2AE0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4810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37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0864-94D6-456A-9882-7A2B476C9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1360" cy="1089000"/>
            <a:chOff x="-12600" y="5784840"/>
            <a:chExt cx="3411360" cy="10890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13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399A3-C487-493F-B46E-53C0666781C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4952880"/>
            <a:ext cx="9144000" cy="1908360"/>
            <a:chOff x="-3240" y="4952880"/>
            <a:chExt cx="9144000" cy="1908360"/>
          </a:xfrm>
        </p:grpSpPr>
        <p:sp>
          <p:nvSpPr>
            <p:cNvPr id="49" name="AutoShape 3"/>
            <p:cNvSpPr/>
            <p:nvPr/>
          </p:nvSpPr>
          <p:spPr>
            <a:xfrm>
              <a:off x="1693800" y="4952880"/>
              <a:ext cx="7440840" cy="482760"/>
            </a:xfrm>
            <a:custGeom>
              <a:avLst/>
              <a:gdLst>
                <a:gd name="textAreaLeft" fmla="*/ 0 w 7440840"/>
                <a:gd name="textAreaRight" fmla="*/ 7441200 w 7440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46080" y="5235480"/>
              <a:ext cx="9090000" cy="782640"/>
            </a:xfrm>
            <a:custGeom>
              <a:avLst/>
              <a:gdLst>
                <a:gd name="textAreaLeft" fmla="*/ 0 w 9090000"/>
                <a:gd name="textAreaRight" fmla="*/ 9090360 w 909000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3240" y="4992840"/>
              <a:ext cx="9137520" cy="1868400"/>
              <a:chOff x="3240" y="4992840"/>
              <a:chExt cx="9137520" cy="186840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4992840"/>
                <a:ext cx="9137520" cy="186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4000" cy="81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360"/>
            <a:ext cx="363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5EBAE-5210-4BD5-825E-3143D1B1049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5784840"/>
            <a:ext cx="3411360" cy="1089000"/>
            <a:chOff x="-12600" y="5784840"/>
            <a:chExt cx="3411360" cy="1089000"/>
          </a:xfrm>
        </p:grpSpPr>
        <p:pic>
          <p:nvPicPr>
            <p:cNvPr id="99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1360" cy="10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77920" y="6421320"/>
              <a:ext cx="16970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F7471-0559-4094-ACFB-F9CE8F91D4C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1560" y="98100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64646"/>
                </a:solidFill>
                <a:latin typeface="Lucida Sans Unicode"/>
              </a:rPr>
              <a:t>Нуклеарна ендокринологија</a:t>
            </a:r>
            <a:endParaRPr b="1" lang="en-US" sz="54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орфолошка и функционална испитивања штитасте жлезд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1481040"/>
            <a:ext cx="82296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ормалне вредности теста фикса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8-20% после 3 сата и 20-45% после 24 с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а смањење фиксације радиоактивног јода у штитастој жлезди утич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Јодирани лекови 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exoral, Mexaform, Amiodaro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Јодиране контрастне матер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иреоидни хормо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Lucida Sans Unicode"/>
              </a:rPr>
              <a:t>Тиреосупреси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тероидни хормо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трумогене намирнице (купус, кељ, репа, сој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itle 5"/>
          <p:cNvSpPr/>
          <p:nvPr/>
        </p:nvSpPr>
        <p:spPr>
          <a:xfrm>
            <a:off x="46836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77" name="Content Placeholder 3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30720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Манифестни општи и локални знаци инфекције постоје код 70% болесник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Остали су са сасвим благим сметњама или без симптома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Microsoft YaHei"/>
              </a:rPr>
              <a:t>Опоравак 95% после 6 недељ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70000" indent="-2700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84360" y="23976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910120" y="3933720"/>
            <a:ext cx="32338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324000" y="571680"/>
            <a:ext cx="8643960" cy="60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ff9900"/>
                </a:solidFill>
                <a:latin typeface="Lucida Sans Unicode"/>
              </a:rPr>
              <a:t>2.</a:t>
            </a:r>
            <a:r>
              <a:rPr b="0" lang="sr-CS" sz="1700" spc="-1" strike="noStrike">
                <a:solidFill>
                  <a:srgbClr val="404040"/>
                </a:solidFill>
                <a:latin typeface="Lucida Sans Unicode"/>
              </a:rPr>
              <a:t> </a:t>
            </a:r>
            <a:r>
              <a:rPr b="0" i="1" lang="ru-RU" sz="1700" spc="-1" strike="noStrike">
                <a:solidFill>
                  <a:srgbClr val="404040"/>
                </a:solidFill>
                <a:latin typeface="Lucida Sans Unicode"/>
              </a:rPr>
              <a:t>Супресивни тестови се најчешће изводе да би се установило да ли се хормон прекомерно излучује. Пацијенту се даје супстанца која побуђује негативну повратну спрегу и изазива инхибицију лучења хормона. Изостанак супресије указује да је секреција аутономна (није под контролом негативне повратне спреге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СУПРЕСИОНИ (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Wernerov)</a:t>
            </a:r>
            <a:r>
              <a:rPr b="1" lang="sr-CS" sz="2000" spc="-1" strike="noStrike">
                <a:solidFill>
                  <a:srgbClr val="000000"/>
                </a:solidFill>
                <a:latin typeface="Lucida Sans Unicode"/>
              </a:rPr>
              <a:t> ТЕСТ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потврђивање дијагнозе хипертиреозе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ravesove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болести и аутономног, токсичног аденома, ако се поред хиперфункцијског нодуса приказује и преостало ткиво жлезд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Урадити тест фиксације радиојода, потом 7 дана пацијент узима супресивне дозе Т3 или 14 дана Т4 300 мцг, понови се тест фиксације радиој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2808360" cy="280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2882880" cy="28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Lucida Sans Unicode"/>
              </a:rPr>
              <a:t>Стимулативним тестовима се испитује недовољно излучивање хормона. Пацијенту се даје тропни хормон, који нормално стимулише излучивање и мери се реакција. Нормалан одговор значи да жлезда није оштећена, изостанак реакције да оштећење постој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Lucida Sans Unicode"/>
              </a:rPr>
              <a:t>СТИМУЛАЦИОНИ ТЕСТ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диференцијалну дијагнозу примарне и секундарне хипотиреозе (тест фиксације-рхТСХ-тест фиксације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испитивање да ли су сцинтиграфски нефункционални делови жлезде, функционо способни (Урадити сцинтиграм дати пацијенту рхТСХ и поновити сцинтиграфију штитасте жлезде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68360" y="1628640"/>
            <a:ext cx="8472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ff9900"/>
                </a:solidFill>
                <a:latin typeface="Lucida Sans Unicode"/>
              </a:rPr>
              <a:t>4.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 Т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H 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Т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за откривање субклиничке хипотиреозе и потврђивање хипертиреоз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базалне вредности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.v. 200 mcg TR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Узимање серума за одређивање TSH након 20 и 60 мин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09480"/>
                <a:tab algn="l" pos="1066680"/>
                <a:tab algn="l" pos="1523880"/>
                <a:tab algn="l" pos="1981080"/>
                <a:tab algn="l" pos="2438280"/>
                <a:tab algn="l" pos="2895480"/>
                <a:tab algn="l" pos="3352680"/>
                <a:tab algn="l" pos="3809880"/>
                <a:tab algn="l" pos="4267080"/>
                <a:tab algn="l" pos="4724280"/>
                <a:tab algn="l" pos="5181480"/>
                <a:tab algn="l" pos="5638680"/>
                <a:tab algn="l" pos="6095880"/>
                <a:tab algn="l" pos="6553080"/>
                <a:tab algn="l" pos="7010280"/>
                <a:tab algn="l" pos="7467480"/>
                <a:tab algn="l" pos="7924680"/>
                <a:tab algn="l" pos="8381880"/>
                <a:tab algn="l" pos="8839080"/>
                <a:tab algn="l" pos="9296280"/>
                <a:tab algn="l" pos="97534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br>
              <a:rPr sz="3700"/>
            </a:b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457200" y="1481040"/>
            <a:ext cx="822960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да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ормална или повишена, а после 30 мин. повишена у односу на базалне вредности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Ако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а доњој граници или снижена, уз смањене или ниско нормалне вредности тиреоидних хормона и после 30 мин. не долази до њеног пораста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да је базална вредност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ниска уз нормалне повишене концентрације тиреоидних хормона, а и после 30 мин. остаје ниска у питању је..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RS" sz="4100" spc="-1" strike="noStrike">
                <a:solidFill>
                  <a:srgbClr val="464646"/>
                </a:solidFill>
                <a:latin typeface="Lucida Sans Unicode"/>
              </a:rPr>
              <a:t>TRH</a:t>
            </a: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 тест</a:t>
            </a:r>
            <a:r>
              <a:rPr b="1" lang="sr-Latn-RS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464646"/>
                </a:solidFill>
                <a:latin typeface="Lucida Sans Unicode"/>
              </a:rPr>
              <a:t>ИСПИТИВАЊЕ ОРГАНСКОГ ВЕЗИВАЊА ЈОДИДА (перхлоратски тест) 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481040"/>
            <a:ext cx="822636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 дијагностици конгениталних струма и Hashimoto тиреоидитис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ринцип: перхлорат 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l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се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везује у ШЖ на месту где се везује јон јодид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Пероксидаза је неопходна за оксидацију јодида у јод, који се затим уграђује у тирозинске остатке Тг, потребна је за спајање МЈТ и ДЈТ, спајање 2 ДЈТ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ада нема пероксидазе јодид улази у цитоплазму али се не везује за тирозин, тако да се истискује након давања перхлората (aнјон ClO4 истискује анјон J–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6600" indent="-603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179280" y="981000"/>
            <a:ext cx="8640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ацијент попије капсулу радиојода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змери се вредност фиксације након 1 час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цијенту се апликује 0,5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перхлората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i.v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 или 1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per os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ри се фиксација на 5 минута током првих 30 минута , потом на 15 минута до истека 2 сата од давања перхлора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ад фиксације већи од 5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4284720" y="3860640"/>
            <a:ext cx="2808360" cy="257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187280" y="3860640"/>
            <a:ext cx="2775240" cy="2575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26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Перхлоратски тест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21932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6040" y="1450440"/>
            <a:ext cx="8147160" cy="37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119"/>
              </a:buClr>
              <a:buSzPct val="68000"/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Штитаста жлезда је смештена с предње стране врата испред трахеје, једина видљива и лако доступна палпацији ендокрина жлезд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8119"/>
              </a:buClr>
              <a:buSzPct val="68000"/>
              <a:buFont typeface="Palatino Linotype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д одраслих, просечна тежина је око 20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30718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200" spc="-1" strike="noStrike">
                <a:solidFill>
                  <a:srgbClr val="464646"/>
                </a:solidFill>
                <a:latin typeface="Lucida Sans Unicode"/>
              </a:rPr>
              <a:t>Морфофункционална испитивања штитасте жлезде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8000" y="1483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494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Сцинтиграфија штитасте жлезде (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атичка / Динамичка, перфузион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Индикације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1. нодозна струма (унинодусна или полинодозн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2. тиреоидни карцином (у дијагностици и лечењу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3. припрема болесника за хируршку интервенцију и процена након операциј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4. хипертиреоза (дијагностика и лечење), диференцијална дијагноза хипертироидног стања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5. хипотиреоза (дијагностика)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6. дијагностика ретростерналне струм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7. дијагностика ектопичне штитасте жлезде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4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365040"/>
                <a:tab algn="l" pos="822240"/>
                <a:tab algn="l" pos="1279440"/>
                <a:tab algn="l" pos="1736640"/>
                <a:tab algn="l" pos="2193840"/>
                <a:tab algn="l" pos="2651040"/>
                <a:tab algn="l" pos="3108240"/>
                <a:tab algn="l" pos="3565440"/>
                <a:tab algn="l" pos="4022640"/>
                <a:tab algn="l" pos="4479840"/>
                <a:tab algn="l" pos="4937040"/>
                <a:tab algn="l" pos="5394240"/>
                <a:tab algn="l" pos="5851440"/>
                <a:tab algn="l" pos="6308640"/>
                <a:tab algn="l" pos="6765840"/>
                <a:tab algn="l" pos="7223040"/>
                <a:tab algn="l" pos="7680240"/>
                <a:tab algn="l" pos="8137440"/>
                <a:tab algn="l" pos="8594640"/>
                <a:tab algn="l" pos="9051840"/>
                <a:tab algn="l" pos="9509040"/>
                <a:tab algn="l" pos="9601200"/>
                <a:tab algn="l" pos="10058400"/>
                <a:tab algn="l" pos="105156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</a:rPr>
              <a:t>Афункциони и хиперфункциони ноду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2160720" cy="216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cxnSp>
        <p:nvCxnSpPr>
          <p:cNvPr id="200" name="Straight Arrow Connector 7"/>
          <p:cNvCxnSpPr/>
          <p:nvPr/>
        </p:nvCxnSpPr>
        <p:spPr>
          <a:xfrm flipH="1">
            <a:off x="2555280" y="3284280"/>
            <a:ext cx="864360" cy="649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5076720" y="2781360"/>
            <a:ext cx="2171880" cy="2016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cxnSp>
        <p:nvCxnSpPr>
          <p:cNvPr id="202" name="Straight Arrow Connector 10"/>
          <p:cNvCxnSpPr/>
          <p:nvPr/>
        </p:nvCxnSpPr>
        <p:spPr>
          <a:xfrm flipV="1">
            <a:off x="4716000" y="4076280"/>
            <a:ext cx="801000" cy="568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214720" cy="212436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6459480" y="2004840"/>
            <a:ext cx="2217960" cy="21434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6" name="Picture 4" descr=""/>
          <p:cNvPicPr/>
          <p:nvPr/>
        </p:nvPicPr>
        <p:blipFill>
          <a:blip r:embed="rId4"/>
          <a:stretch/>
        </p:blipFill>
        <p:spPr>
          <a:xfrm>
            <a:off x="3641760" y="2004840"/>
            <a:ext cx="2305080" cy="20764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07" name="Picture 1" descr=""/>
          <p:cNvPicPr/>
          <p:nvPr/>
        </p:nvPicPr>
        <p:blipFill>
          <a:blip r:embed="rId5"/>
          <a:stretch/>
        </p:blipFill>
        <p:spPr>
          <a:xfrm>
            <a:off x="3571920" y="4581360"/>
            <a:ext cx="162720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-648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705040" cy="220968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286240" y="4143240"/>
            <a:ext cx="2428920" cy="242892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5286240" y="1571760"/>
            <a:ext cx="2419560" cy="22860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  <p:pic>
        <p:nvPicPr>
          <p:cNvPr id="212" name="Picture 5" descr=""/>
          <p:cNvPicPr/>
          <p:nvPr/>
        </p:nvPicPr>
        <p:blipFill>
          <a:blip r:embed="rId5"/>
          <a:stretch/>
        </p:blipFill>
        <p:spPr>
          <a:xfrm>
            <a:off x="2143080" y="4214880"/>
            <a:ext cx="2419560" cy="241920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683100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258840" y="1268280"/>
            <a:ext cx="851544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одус је ограничена промена грађе тироидне жлезде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нодус &gt; 10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m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се додатно испитују, могу да буду клинички значајни за тироидни малигнитет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Испитивању нодуса ≤ 10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m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ечника само ако постоји додатни разлог за сумњу на малигнитет (породична или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ична анамнеза тироидног малигнитета, анамнеза зрачења врата, ултразвучне особености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Lucida Sans Unicode"/>
              </a:rPr>
              <a:t>нодуса, придружена лимфаденопатија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31720" y="1890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лтразвучне карактеристике нод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цена лимфних нодуса вра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рење ТСХ 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цинтиграфија штитасте жлез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утинско мерење тироидних хормона није економски оправда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дређивање калцитонина у сер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1680" y="620640"/>
            <a:ext cx="8929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ироидни чворови и струма су чести, уобичајено се откривају случајно, ултразвучним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егледом врата из других разлог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ко је откривен чвор, када је откривен, да ли је био или је болан, да ли расте, да ли постоје пратећи симптоми и знаци, да ли је особа лечена или се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лечи због промене грађе или функције ШЖ, да ли је у породици било болести ШЖ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даци сугестивни за малигнитет: </a:t>
            </a: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изразито брз раст нодуса и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појава промуклости,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излагање радијацији у детињству и адолесценцији, породична анамнеза канцерских синдрома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i="1" lang="ru-RU" sz="2100" spc="-1" strike="noStrike">
                <a:solidFill>
                  <a:srgbClr val="000000"/>
                </a:solidFill>
                <a:latin typeface="Lucida Sans Unicode"/>
              </a:rPr>
              <a:t>Cowden ов синдром, фамилијарна</a:t>
            </a:r>
            <a:r>
              <a:rPr b="0" i="1" lang="en-US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ипоза, </a:t>
            </a:r>
            <a:r>
              <a:rPr b="0" i="1" lang="ru-RU" sz="2100" spc="-1" strike="noStrike">
                <a:solidFill>
                  <a:srgbClr val="000000"/>
                </a:solidFill>
                <a:latin typeface="Lucida Sans Unicode"/>
              </a:rPr>
              <a:t>Carney јев комплекс, мултипла ендокрина неоплазија),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95280" y="461880"/>
            <a:ext cx="82296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ерење ТСХ у серуму је почетни поступак у оцени функције нодозне струме. Уколико се добије снижена вредност ТСХ, урадити сцинтиграфију штитасте жлезд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Рутинско мерење тироидних хормона није економски оправдано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лцитонин у серуму може да открије хиперплазију Ц ћелија или медуларни карцином у ранијем стадијуму и опште преживљавање може да буде продужен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ко су вредности калцитонина умерено повишене, треба урадити калцијумски тест (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.v.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2,5 mg калцијума /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kg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ТТ у брзој инфузији, калцитонин одредити 0, 3, 5, и 10 минута по инфузији). Вредности од ≥500 ng/ml калцитонина у серуму после стимулације калцијумом оправдавају оперативно одстрањивање штитасте жлез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лтразвучне особености сугестивне за злоћудну природу нодуса су: хипоехогеност, неправилна ивица, одсуство засенчења око ивице нодуса, микрокалцификације, интранодозна хиперваскуларност и регионална лимфаденопатиј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474840"/>
                <a:tab algn="l" pos="932040"/>
                <a:tab algn="l" pos="1389240"/>
                <a:tab algn="l" pos="1846440"/>
                <a:tab algn="l" pos="2303640"/>
                <a:tab algn="l" pos="2760840"/>
                <a:tab algn="l" pos="3218040"/>
                <a:tab algn="l" pos="3675240"/>
                <a:tab algn="l" pos="4132440"/>
                <a:tab algn="l" pos="4589640"/>
                <a:tab algn="l" pos="5046840"/>
                <a:tab algn="l" pos="5504040"/>
                <a:tab algn="l" pos="5961240"/>
                <a:tab algn="l" pos="6418440"/>
                <a:tab algn="l" pos="6875640"/>
                <a:tab algn="l" pos="7332840"/>
                <a:tab algn="l" pos="7790040"/>
                <a:tab algn="l" pos="8247240"/>
                <a:tab algn="l" pos="8704440"/>
                <a:tab algn="l" pos="916164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лтразвук је веома важан у оцени лимфних нодуса врата. Физикални налаз сумњиве аденопатије врата оправдава УЗ преглед лимфних нодуса и штитасте жлезде због значајне могућности локалних метастаза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непрепознатог папиларног тироидног карцином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68360" y="260280"/>
            <a:ext cx="5256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Ectopic Thyroid in the Anterior Mediastinum Resected Through a  Video-Assisted Transcervical Approach: Case Report | CTSNet"/>
          <p:cNvPicPr/>
          <p:nvPr/>
        </p:nvPicPr>
        <p:blipFill>
          <a:blip r:embed="rId1"/>
          <a:srcRect l="26397" t="7251" r="20844" b="9362"/>
          <a:stretch/>
        </p:blipFill>
        <p:spPr>
          <a:xfrm>
            <a:off x="5940360" y="1484280"/>
            <a:ext cx="2890800" cy="3218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468360" y="620640"/>
            <a:ext cx="5040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Ембрионални развој штитасте жлезде је веома компликован, што отвара могућности за настанак аномалија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Агенез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Хипоплаз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Ектопично положена: </a:t>
            </a:r>
            <a:r>
              <a:rPr b="0" lang="en-US" sz="1800" spc="-1" strike="noStrike">
                <a:solidFill>
                  <a:srgbClr val="231f20"/>
                </a:solidFill>
                <a:latin typeface="SMinionTab-Regular"/>
              </a:rPr>
              <a:t>(суб)л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ингвална, супра и инфрахиоидна, медијастинал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uctus thyreoglos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Анатомска варијација облика -пирамидални режа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324000" y="9810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Ако се пункцијом нодуса добије бенигни цитопатолошки налаз а клинички нема компресивних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метњи, пацијент се прати клиничким и ултразвучним контрола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ао малигни, најчешће се добија налаз папиларне неоплазме, знатно ређе налаз медуларног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тироидног карцинома, анапластичног карцинома, лимфома или метастазе другог тумора у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штитасту жлезд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27468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диофреквентна термална аблација за смањење већих тироидних нодуса представља подручје од све већег интереса. Поступак је заснован на апликацији таласа високе фреквенце и обавља се у локалној анестезији или значајној сед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кутана ласер аблација вођена ултразвуком је много безбеднији и једноставнији поступа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ва интервенција се обавља у локалној анестезији и потврђена је њена сигурност и клиничка употребљивост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Бенигн</a:t>
            </a:r>
            <a:r>
              <a:rPr b="1" lang="sr-Latn-C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рни а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ено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Малигн</a:t>
            </a:r>
            <a:r>
              <a:rPr b="1" lang="sr-Latn-CS" sz="1700" spc="-1" strike="noStrike">
                <a:solidFill>
                  <a:srgbClr val="ff3300"/>
                </a:solidFill>
                <a:latin typeface="Lucida Sans Unicode"/>
                <a:ea typeface="Arial"/>
              </a:rPr>
              <a:t>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орекла фоликуларних ћелиј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бро диферентовани (Папи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Фоли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оше диферентован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диферентовани (анапластични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орекла Ц-ћелиј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дулар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Примарног неп</a:t>
            </a:r>
            <a:r>
              <a:rPr b="0" lang="en-U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и</a:t>
            </a: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телног порекл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617400" indent="-228600">
              <a:lnSpc>
                <a:spcPct val="13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м</a:t>
            </a:r>
            <a:r>
              <a:rPr b="0" lang="sr-Latn-CS" sz="1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, саркоми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1700" spc="-1" strike="noStrike">
                <a:solidFill>
                  <a:srgbClr val="da1f28"/>
                </a:solidFill>
                <a:latin typeface="Lucida Sans Unicode"/>
                <a:ea typeface="Arial"/>
              </a:rPr>
              <a:t>Секундарн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691920"/>
            <a:ext cx="40370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апиларни карци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чешћи малигни тумори (70%), 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шћи код жена (30-40год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тастазе у ЛГЛ, ређе кости, мозак и плућ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лична прогно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же се дијагностиковати путем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NA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опходна тиреидектомиј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646520" y="691920"/>
            <a:ext cx="40370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рни карци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15-25% од свих малигних неоплазми тиреоиде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бично код старијих од 40 год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ши инвазију капсуле тум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ши инвазију крвних судов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тас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зира у плућа и к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4360" y="444600"/>
            <a:ext cx="38685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Медуларни карцин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4360" y="1472760"/>
            <a:ext cx="3868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рекла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ћелија (парафоликуларних ћелија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ЕТ Он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ге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уморски маркер је </a:t>
            </a:r>
            <a:r>
              <a:rPr b="1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алцитони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следни случајеви се јављају заједно са феохромоцитом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417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Анапластични карцин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716360" y="1473120"/>
            <a:ext cx="388800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тарије жен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Брз и смртонос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214200" y="1643040"/>
            <a:ext cx="86439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арање преосталог “нормалног” тироидног тки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ар</a:t>
            </a:r>
            <a:r>
              <a:rPr b="0" lang="sr-R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е преосталих канцерогених ћел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дентификација удаљених метаст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ксимализација сензитивности и специфичности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серум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ког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 т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глобулин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1160" cy="1187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2743200" y="6297480"/>
            <a:ext cx="640080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zzaferri EL,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J Clin Endocrinol Metab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2001;86:1447-1463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hen EG, et al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Otolaryngol Clin North A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2003;36:129-157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6067440" y="5638680"/>
            <a:ext cx="31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ole Body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scintigrafi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G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Ant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iTG 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181040" y="4083120"/>
            <a:ext cx="235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Супресиона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71080" y="1568520"/>
            <a:ext cx="32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отал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тиреоидекто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043600" y="5334120"/>
            <a:ext cx="140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Tahoma"/>
              </a:rPr>
              <a:t>1 </a:t>
            </a:r>
            <a:r>
              <a:rPr b="0" lang="sr-Latn-CS" sz="2000" spc="-1" strike="noStrike">
                <a:solidFill>
                  <a:srgbClr val="464646"/>
                </a:solidFill>
                <a:latin typeface="Tahoma"/>
              </a:rPr>
              <a:t>godišn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661480" y="2724120"/>
            <a:ext cx="174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РА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абл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7"/>
          <p:cNvSpPr/>
          <p:nvPr/>
        </p:nvSpPr>
        <p:spPr>
          <a:xfrm rot="7740000">
            <a:off x="6107400" y="4825080"/>
            <a:ext cx="470160" cy="725760"/>
          </a:xfrm>
          <a:prstGeom prst="upArrow">
            <a:avLst>
              <a:gd name="adj1" fmla="val 50000"/>
              <a:gd name="adj2" fmla="val 38591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8"/>
          <p:cNvSpPr/>
          <p:nvPr/>
        </p:nvSpPr>
        <p:spPr>
          <a:xfrm rot="7740000">
            <a:off x="4013280" y="352944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9"/>
          <p:cNvSpPr/>
          <p:nvPr/>
        </p:nvSpPr>
        <p:spPr>
          <a:xfrm rot="7740000">
            <a:off x="2602080" y="2462760"/>
            <a:ext cx="469800" cy="725400"/>
          </a:xfrm>
          <a:prstGeom prst="upArrow">
            <a:avLst>
              <a:gd name="adj1" fmla="val 50000"/>
              <a:gd name="adj2" fmla="val 38602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0" y="5942160"/>
            <a:ext cx="63244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Cohen EG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Otolaryngol Clin North Am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36:129-157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J Clin Endocrinol Metab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88:1433-1441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Sherman SI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Lancet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3;361:501-511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J Clin Endocrinol Metab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1;86:1447-1463.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Mazzaferri EL, et al. </a:t>
            </a:r>
            <a:r>
              <a:rPr b="0" i="1" lang="en-US" sz="800" spc="-1" strike="noStrike">
                <a:solidFill>
                  <a:srgbClr val="000000"/>
                </a:solidFill>
                <a:latin typeface="Lucida Sans Unicode"/>
              </a:rPr>
              <a:t>Endocr Relat Cancer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. 2002;9(4):227-247.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600" spc="-1" strike="noStrike">
                <a:solidFill>
                  <a:srgbClr val="464646"/>
                </a:solidFill>
                <a:latin typeface="Lucida Sans Unicode"/>
              </a:rPr>
              <a:t>Терапијски приступ тиреоидним карциномим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357120" y="1916280"/>
            <a:ext cx="828684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укупног тироксина и укупног тријодтиронина у серум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слободног тироксина и слободног тријодтирон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у серу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t Tg-Ab, At Mc-Ab, At-TSH receptorska 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концентрације тиреоглобулина у серу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09440"/>
            <a:ext cx="860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0" y="1214280"/>
            <a:ext cx="88581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венствен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ажав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еличин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С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ак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физичк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иопс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пер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апаљ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ојод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С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цептор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вешћ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рас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румск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Преоперативне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вредности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серум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немај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дијагноз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имај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ограниче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прогнозну</a:t>
            </a:r>
            <a:r>
              <a:rPr b="0" lang="en-US" sz="1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ff0000"/>
                </a:solidFill>
                <a:latin typeface="Lucida Sans Unicode"/>
              </a:rPr>
              <a:t>вредност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специфичан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на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ног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неопластич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к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иферентован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арциномим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г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ћ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ормал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вредно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јвећ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нача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еђивањ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румск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перативн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ћењ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периса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иферентован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арцином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штитасте жлезд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353880" y="122400"/>
            <a:ext cx="8472600" cy="117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274680" y="857160"/>
            <a:ext cx="859464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нтитиреоглобулинска антитела (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TgAb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-највећи део метаболизма Тг се одвија унутар тиреоцита, известан број неразграђених молекула Тг доспева у лимфоток потом у циркулацију. Титар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TgAb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је повишен код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65-95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ацијената 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Hashimoto tireoiditisom, 60-9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Gravesovom bolešću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ролазно и у мањем степену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50-75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код пацијената са субакутним тиреоидитисом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умерено повишен код струме, малигнитет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али и код 1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6%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 нормалне популације &gt;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65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годин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нтитела према тиреоидној пероксидази (</a:t>
            </a:r>
            <a:r>
              <a:rPr b="1" lang="vi-VN" sz="1700" spc="-1" strike="noStrike">
                <a:solidFill>
                  <a:srgbClr val="000000"/>
                </a:solidFill>
                <a:latin typeface="Lucida Sans Unicode"/>
              </a:rPr>
              <a:t>TPOAb</a:t>
            </a:r>
            <a:r>
              <a:rPr b="1" lang="sr-RS" sz="17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овишене вредности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90-10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ацијената са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Hashimoto tireoiditisom, 75-10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Gravesovom bolešću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пролазно и мањем степену код 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55-70%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а субакутним тиреоидитисом , у мањем проценту код пацијената са другим деструктивним и запаљенским болестима штитасте жлезде</a:t>
            </a: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br>
              <a:rPr sz="1700"/>
            </a:br>
            <a:r>
              <a:rPr b="0" lang="vi-VN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9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2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Синтеза тиреоидних хормон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25000"/>
            <a:ext cx="8586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Јодинација тирозинских остатака тиреоглобули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активан транспорт јодидног анјона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преко 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Na/I 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котранспортера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(NIS)</a:t>
            </a:r>
            <a:r>
              <a:rPr b="0" lang="sr-C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, локализованог на базолатералној мембрани тиреоцита, насупрот електрохемијског и градијента концентрације, уз знатан утрошак енергије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Преко апикалне мембране јодид се премешта у колоид. Оксидација јодида у јод и органификација јода у тирозинске остатке тиреоглобулина се дешава на луминалној површини апикалне мембран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други анјони (перхлорат, пертехнетат и тиоцијанат) могу компетитивно инхибирати транспорт јодида у тиреоцит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Транспорт је двоструко регулисан : 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и концентрација јодид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66772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2"/>
          <p:cNvSpPr/>
          <p:nvPr/>
        </p:nvSpPr>
        <p:spPr>
          <a:xfrm>
            <a:off x="457200" y="1143000"/>
            <a:ext cx="84009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Lucida Sans Unicode"/>
              </a:rPr>
              <a:t>TRAB 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SH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цептор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еђу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орецепторски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ст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којим се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азу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ја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SH рецептор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стир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в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мисл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"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оид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"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ж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тврди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нтител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тимулишућа и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локирајућ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Gravesov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ндокри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еутиреоид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фталмопатиј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стовременог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стојањ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Gravesove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Plummer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в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олес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618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1800"/>
                <a:tab algn="l" pos="819000"/>
                <a:tab algn="l" pos="1276200"/>
                <a:tab algn="l" pos="1733400"/>
                <a:tab algn="l" pos="2190600"/>
                <a:tab algn="l" pos="2647800"/>
                <a:tab algn="l" pos="3105000"/>
                <a:tab algn="l" pos="3562200"/>
                <a:tab algn="l" pos="4019400"/>
                <a:tab algn="l" pos="4476600"/>
                <a:tab algn="l" pos="4933800"/>
                <a:tab algn="l" pos="5391000"/>
                <a:tab algn="l" pos="5848200"/>
                <a:tab algn="l" pos="6305400"/>
                <a:tab algn="l" pos="6762600"/>
                <a:tab algn="l" pos="7219800"/>
                <a:tab algn="l" pos="7677000"/>
                <a:tab algn="l" pos="8134200"/>
                <a:tab algn="l" pos="8591400"/>
                <a:tab algn="l" pos="9048600"/>
                <a:tab algn="l" pos="9505800"/>
                <a:tab algn="l" pos="9601200"/>
                <a:tab algn="l" pos="10058400"/>
                <a:tab algn="l" pos="105156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раћење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иво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еосупресивној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ерапиј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ож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доказа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"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биолошк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мис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"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негативизациј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д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јих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одржав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повишен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концентрациј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TRAB-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оком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иреосупресивн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терапије,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зглед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лазак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рајниј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емисиј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мал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треба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змотрити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радикално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Lucida Sans Unicode"/>
              </a:rPr>
              <a:t>лечење</a:t>
            </a: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Lucida Sans Unicode"/>
              </a:rPr>
              <a:t>је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линички синдром појачане функције штитасте жлезде</a:t>
            </a:r>
            <a:r>
              <a:rPr b="0" lang="sr-CS" sz="2000" spc="-1" strike="noStrike">
                <a:solidFill>
                  <a:srgbClr val="ffffff"/>
                </a:solidFill>
                <a:latin typeface="Lucida Sans Unicode"/>
              </a:rPr>
              <a:t> код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raves-Basedow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болести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ashimoto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тиреоидитиса у транзиторној хипертиреози, аутоимуног токсичног аденома у декомпензованој фази, токсичне нодозне струм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РАПИЈА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Медикаментозна (тиреостатици уз бета блокаторе и седативе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Хируршка (уз претходно медикаментозно увођење пацијента у ремисију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Lucida Sans Unicode"/>
              </a:rPr>
              <a:t>ХИПЕРТИРЕОЗА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862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4810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инцип деловања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Органификација у тиреоцит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честице домета до 2.5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m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делују на тиреоците, а њихова енергија апсорбована у ткиву штитасте жлезде доводи до едема, пикнозе, крварења и некрозе тиреоцита, што временом доводи до фиброзе. Једном започет, фиброзни процес напредује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48104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нтраиндик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Гравидитет и лактација су апсолутне контраиндик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Релативн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Не испод 18 година живота, (изузетак су особе код којих је ово једини могући вид лечењ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ад постоји сцинтиграфски афункциони ноду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Код доказаних малигних тум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Изражена офталмопат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480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Шта је неопходно урадити пре апликације терапијске дозе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Детаљна анамнез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ст фиксације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цинтиграфија и УЗ штитасте жлезд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дређивање вредности 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3, 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4,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SH,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антитиреоидних антите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Комплетна крвна слика, број тромбоци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Обустава тиреосупресива пре примене терапијске дозе јод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Детаљно обавестити пацијента и ако пристане следи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480680"/>
            <a:ext cx="850752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..</a:t>
            </a: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sr-CS" sz="2700" spc="-1" strike="noStrike">
                <a:solidFill>
                  <a:srgbClr val="ffffff"/>
                </a:solidFill>
                <a:latin typeface="Lucida Sans Unicode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ИЗРАЧУНАВАЊЕ ДОЗЕ за лечење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raves-Basedow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болести и токсичне нодозне струме с функцијским чвором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Метод фиксне дозе по Вернеру (од 110-185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). 60%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пацијената за три до четири месеца улазе у еутиреоидно стањ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Метод по граму ткива штитасте жлезде: доза (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тежина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*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број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*100/24h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фиксација(%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Обично се даје 2-4.5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Bq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по граму ткива жлезде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 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Терапијска доза се апликује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per os</a:t>
            </a: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, наште, а сат времена после апликације пацијент не треба да узима храну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У првих 6 недеља пацијент може бити више хиперметаболичан него пре терапије, што подразумева по потреби укључивање допунске медикаментозне терапије (бета блокатори, који спречавају периферну конверзију Т4 у Т3, седативи, који делују симптоматски и тиреостатици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Најмање три месеца после прве, може се апликовати и друга терапијска доза радиојода, уколико жељени ефекат није постигну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Хипотиреоза се јавља после 12 месеци у само 8% пацијената који су након радиојодне добили и тиреостатску терапију а и до 36% пацијената код којих радиојодна није била праћена тиреостатском терапијом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ТЕРАПИЈА</a:t>
            </a:r>
            <a:r>
              <a:rPr b="1" lang="sr-C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1" lang="sr-CS" sz="2700" spc="-1" strike="noStrike">
                <a:solidFill>
                  <a:srgbClr val="000000"/>
                </a:solidFill>
                <a:latin typeface="Lucida Sans Unicode"/>
              </a:rPr>
              <a:t>РАДИОАКТИВНИМ ЈОДОМ</a:t>
            </a:r>
            <a:endParaRPr b="1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560" y="936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1900" spc="-1" strike="noStrike">
                <a:solidFill>
                  <a:srgbClr val="c00000"/>
                </a:solidFill>
                <a:latin typeface="Lucida Sans Unicode"/>
              </a:rPr>
              <a:t>КОМПЛИКАЦИЈ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Ране: Најопаснија је могућност настајања тиреотоксичне кризе (фебрилност, измењено стање свести, тахикардија, презнојавање, дијареја), која захтева хоспитализацију и адекватну терапију (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a-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јодид који акутно блокира ослобађање синтетисаних хормона, </a:t>
            </a:r>
            <a:r>
              <a:rPr b="0" lang="el-GR" sz="2200" spc="-1" strike="noStrike">
                <a:solidFill>
                  <a:srgbClr val="000000"/>
                </a:solidFill>
                <a:latin typeface="Lucida Sans Unicode"/>
              </a:rPr>
              <a:t>β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 блокатори да блокирају конверзију на периферији и тиреостатици, надокнада течности и кортикостероиди). Радијациони тиреоидитис настаје ређе и мање је опасна рана компликациј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</a:rPr>
              <a:t>Касне-Хипотиреоз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Друга фаза у синтези тироидних хормона је оксидација јодида у јод, који се уграђује у тирозинске остатке тиреоглобулина, уз присуство тироидне пероксидазе. Јодотирозини (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)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немају физиолошко деловање, прекурсори су тироидних хормона. Спајањем молекула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настаје Т3, а спајањем два молекула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DIT,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Т4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Формирање Т3 или Т4, зависи од количине јодида, али 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тимулације. Одсуство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SH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мањује јодинацију тиреоглобулин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Смањен унос јодида повећава однос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MIT/DIT </a:t>
            </a:r>
            <a:r>
              <a:rPr b="0" lang="sr-RS" sz="1700" spc="-1" strike="noStrike">
                <a:solidFill>
                  <a:srgbClr val="000000"/>
                </a:solidFill>
                <a:latin typeface="Lucida Sans Unicode"/>
              </a:rPr>
              <a:t>и </a:t>
            </a:r>
            <a:r>
              <a:rPr b="0" lang="sr-Latn-RS" sz="1700" spc="-1" strike="noStrike">
                <a:solidFill>
                  <a:srgbClr val="000000"/>
                </a:solidFill>
                <a:latin typeface="Lucida Sans Unicode"/>
              </a:rPr>
              <a:t>T3/T4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771640" y="4292640"/>
            <a:ext cx="372132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Wolff-Chaikoff ефекат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480680"/>
            <a:ext cx="822636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Акутно давање јодида доводи до смањене количине органски везаног јода. Пад органског јода при повећаном уносу неорганског зове се </a:t>
            </a:r>
            <a:r>
              <a:rPr b="0" lang="sr-Latn-RS" sz="2100" spc="-1" strike="noStrike">
                <a:solidFill>
                  <a:srgbClr val="000000"/>
                </a:solidFill>
                <a:latin typeface="Lucida Sans Unicode"/>
              </a:rPr>
              <a:t>Wolff-Chaikoff </a:t>
            </a: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ефекат. Могуће објашњење је да висок ниво јодида инхибише тироидном пероксидазом катализовану јодинацију. ПТУ и метимазол на овај начин смањују синтезу тиреодних хормона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100" spc="-1" strike="noStrike">
                <a:solidFill>
                  <a:srgbClr val="000000"/>
                </a:solidFill>
                <a:latin typeface="Lucida Sans Unicode"/>
              </a:rPr>
              <a:t>Wolff i Chaikoff </a:t>
            </a:r>
            <a:r>
              <a:rPr b="0" lang="sr-RS" sz="2100" spc="-1" strike="noStrike">
                <a:solidFill>
                  <a:srgbClr val="000000"/>
                </a:solidFill>
                <a:latin typeface="Lucida Sans Unicode"/>
              </a:rPr>
              <a:t>су 1948. године објавили да је органско везивање јодида у ШЖ пацова било блокирано када је ниво јодида у плазми достигао критично висок праг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060560" y="298440"/>
            <a:ext cx="7559640" cy="97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71360" y="1457280"/>
            <a:ext cx="755820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СТ ФИКСАЦИЈЕ радиоактивног ј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СУПРЕСИОНИ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SH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СТИМУЛАЦИОНИ 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H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ИСПИТИВАЊЕ ОРГАНСКОГ ВЕЗИВАЊА ЈОДИДА (перхлоратски тес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Штитаста жлезда</a:t>
            </a:r>
            <a:br>
              <a:rPr sz="3700"/>
            </a:b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ункционална </a:t>
            </a:r>
            <a:r>
              <a:rPr b="1" i="1" lang="sr-Latn-RS" sz="3700" spc="-1" strike="noStrike">
                <a:solidFill>
                  <a:srgbClr val="464646"/>
                </a:solidFill>
                <a:latin typeface="Lucida Sans Unicode"/>
              </a:rPr>
              <a:t>in vivo </a:t>
            </a: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испитивањ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1481040"/>
            <a:ext cx="83628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ЕСТ ФИКСАЦИЈЕ радиоактивног јода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е заснива на одређивању процента везивања дијагностичке дозе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Lucida Sans Unicode"/>
              </a:rPr>
              <a:t>131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 у штитастој жлезд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Индикаци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Сумња на субакутни</a:t>
            </a:r>
            <a:r>
              <a:rPr b="0" lang="sr-Latn-R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 Quervaine) </a:t>
            </a: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тиреоидити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Лечење хипертиреозе радиоактивним јод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Lucida Sans Unicode"/>
              </a:rPr>
              <a:t>У првој постоперативној контроли болесника с диферентованим карциномом тиреоидеје којима је урађена тотална тиреоидектом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212400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Штитаста жлезда</a:t>
            </a:r>
            <a:br>
              <a:rPr sz="1800"/>
            </a:b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Функционална </a:t>
            </a:r>
            <a:r>
              <a:rPr b="0" i="1" lang="sr-Latn-RS" sz="1800" spc="-1" strike="noStrike">
                <a:solidFill>
                  <a:srgbClr val="ffffff"/>
                </a:solidFill>
                <a:latin typeface="Tahoma"/>
              </a:rPr>
              <a:t>in vivo </a:t>
            </a:r>
            <a:r>
              <a:rPr b="0" lang="sr-RS" sz="1800" spc="-1" strike="noStrike">
                <a:solidFill>
                  <a:srgbClr val="ffffff"/>
                </a:solidFill>
                <a:latin typeface="Tahoma"/>
              </a:rPr>
              <a:t>испитивањ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4:48:18Z</dcterms:created>
  <dc:creator>Info</dc:creator>
  <dc:description/>
  <dc:language>en-US</dc:language>
  <cp:lastModifiedBy>Vladimir Vukomanovic</cp:lastModifiedBy>
  <dcterms:modified xsi:type="dcterms:W3CDTF">2023-10-21T13:02:46Z</dcterms:modified>
  <cp:revision>112</cp:revision>
  <dc:subject/>
  <dc:title>НУКЛЕАРНА ЕНДОКРИНОЛОГИЈ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